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D7D-75D0-4A5D-AB8B-33C0FBBA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21C-2EB5-4012-8572-22BC8C14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FFDF5-182F-4CC6-BA96-B276E764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09FB6-2A20-4456-B3C6-C5BF3CF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D8039-EEB0-457D-B5BB-34F4BC0F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744F3-1A8C-4DE0-948E-740BE90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B24DB-14F1-4C87-B3E8-D338250E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1A6CF-01B1-4D69-BAD5-0D1F7AC1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5470E-7540-48B4-AE55-1E9855E0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6894D-D373-41B3-96D1-A484EF6F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ED35D-9AC7-40C0-BCD0-EA758A0D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B58E5-5C17-4D6E-A14E-6F976DAE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0A4-4C6C-41C2-9C10-38B09549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B12F0-35BF-4F7B-BC58-FDAC81D0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AD99D-D555-490E-95BC-7E70BF9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4E92F-27DE-4CCC-AC86-680DEB04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86C37-65AD-42AC-85F4-1331625C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1EB27-25A9-4568-8455-49FA6AD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AFA7B-7DD8-40BF-BAFA-2519732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05DF1-5E9F-4FEC-A660-9A1BC49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25ECE-9328-471A-8FF0-12ECBBE4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2C9D1-49DC-4170-8690-36DD7903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B6A87-2A1D-4B82-B31C-D67AF927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3C4-E0B7-4FAB-AB2F-28A39BEC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03AF6-FE96-4395-805C-076478FF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0A54C-4601-45E9-A645-A5A358E3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1B8F8-0A8A-431B-89EE-A5DAB643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86EEA-E20D-43D3-B1E1-3D0A61B5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3CE47-51CA-402C-9AB9-90F2B742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91DA9-B9FF-41DD-ADCD-6376597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23208-0A3B-4E5F-A281-C7E19CF0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D65BF-B449-45D8-9B97-529BB03B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C56DE-3CE4-46D9-9862-AC34E61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0D640-BE0B-47CD-BCD0-9829F3C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480F-328D-4124-875D-B39946B9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57BE6-257D-4A35-90C2-B8A20E09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BE7F5-8A50-4E9C-ADB1-D459B848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69CB0-474C-4964-A921-C70D636D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4169C-F0E0-497B-A72F-E5E4E37A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E4A74-E683-4A98-A841-BCF6BFBB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1888E-F73A-481D-9F9F-494E21E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AF729-FE19-4291-ADA6-0F59307A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80525-F588-48F4-8202-B0AB367B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84196-2C4E-4B48-8468-05F3F25F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17EDC-A998-4158-A0F2-7916F8BE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E2FF-8B3A-480A-9B4D-8BEFFF23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AC3DD-C8EC-4273-8C1D-010851F7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79432-BBB9-420F-A73D-95FA1C63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CB41C-42E1-410B-ACE0-D3955025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9F807-DB44-40FA-BDD8-85C88E5D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250FB-682A-4B97-85EB-75FBC8CC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B6CD8-B99B-4BBE-80F7-0BF1ADF8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3E8B2-1271-4D87-827C-8F860395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B7475-F1E5-4C89-BFD3-9C7FABB7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69C57-579E-4C5F-930E-F6D63318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B275F-7D0E-4455-A859-22284CC9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8A5D-B7CF-4E8C-AC54-DB15D877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F7BFE-3E1B-4F69-91C0-05C4E9D3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3A0AF-2848-430F-B822-DBE2CE0C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20E38-4C5C-4510-8064-E13071A8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15A9A-8835-4EC9-8B01-30CE84B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B37EF-9D50-481F-B79C-9A3DE315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789E5-88C0-4779-BE53-1E292A78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BAE59-6471-49AF-9801-CB854BDE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68A0F-A4E4-488F-A927-0A03696A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E9121-0B6D-44B3-ADD1-65D6DA03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CCA3F-3F78-4C48-ABD0-BB4C1810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4370-461F-4A1E-B275-4BB9AB27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450E0-9102-4626-B788-5DFCDBD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33353-7703-4593-948F-2B940DCE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0C1D1-834D-43BE-82C4-F480B21A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9DF8E-0FAF-4C37-BB12-87C87C3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3AD11-5079-470C-A57A-5E5B58C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E4573-6FEF-4772-9772-CB17BA73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59603-1180-4FAB-ACB9-A4CAB744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ED05B-A83D-45EE-9C0C-A3435694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623DA-E727-4574-B44F-5D6C7415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22AEB-9811-4751-9280-D0824690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F995-6F74-4129-80E0-EF8CA1BB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E8B97-9D80-471F-BDC5-0249FD89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734CE-6D40-4A51-90C3-B5A1E64A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E81B9-50E5-4C03-9D66-5C59D6FA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7D2BB-4858-44FE-B634-D0B39C78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10910-4A54-4B6D-8B66-2E25944D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61921-5918-4796-A245-EBBA2112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FA6D5-E16E-4921-BD42-94620D32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5FC4D-D3AB-4F7B-9A85-8F3ED74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AB61D-11DB-4588-B823-59DF15BB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B3975-66D1-4CC6-98F1-C155EB07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13A2-7A48-4FC8-8B19-EFB04CD9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83A50-D5DC-4AF3-A0C5-56D38100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489D6-D6C6-45E2-90CA-0B9EE90B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946A7-7A2F-4731-AE57-959925FF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CDF9B-D0F1-4729-BDF0-5B093BF4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2A4DA-D778-47BD-8075-E03FF2D0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EDF3E-D201-4915-8ACF-6B5F78F1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7BA1F-C659-4607-8934-FAE84881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D3A84-C232-4340-94D0-E5FEE21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7B1E7-D571-43EC-A66F-7668316B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62A8B-A3D4-4743-87C7-DF7EC6FA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134F-EF04-483A-A2B7-8F6C2343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69B2A-3E33-491D-BB5D-13AF591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A2904-F72F-4A9F-A0C7-9440E823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1CBD7-94EE-43A8-B82B-1A3E38DF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8EE9E-F88D-4FF7-9F72-0C58D537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EB18C-8DC7-4CBF-B88B-D7B22AB2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43CB9-0EE4-41D0-8D54-F342FC8E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58416-6B3C-42A3-A2AE-554B37B1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C57D4-1BE9-4F5C-B921-A634CE1B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F6007-5A6A-4283-BA76-A77B95E3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A9942-227D-41F7-A9D0-226A6BC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8C8-C579-4389-874F-B1FC8C11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D16A-9C0B-4063-A4CE-9E159B28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6223B-7DE8-4FB8-B92D-DCAE27E1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15FD7-A9D3-4C10-A451-F85F0B72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9F65D-448E-4A84-AF89-859FBE3B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49376-04C8-448A-9EEB-3B05823A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CFC4D-D480-43D0-916E-6A66D494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42999-F32C-4A1C-8DB4-00F4724D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88C68-C3D4-4D99-BEA7-2AEB857C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FE500-E163-465D-A455-350B5C79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CC69C-8855-4688-82A6-834CC55B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711DE-9515-406D-9B20-8738FFCC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F526-4D9D-4B98-AB9C-00FF9BF0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6008B-12AB-4868-9D4B-5D1E260B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33BD5-84CC-443E-A452-38DBBFAF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0B24E-965B-41B4-A928-2C12E5B3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7DF24-EB83-424A-AC1A-2CAB9FA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AB416-F953-4044-96C2-F60727EE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6B014-BB73-4162-8CFE-8ED69605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0E4ED0-2C4D-4146-9F9A-8BAA2EF6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22D73B-C026-4005-90F6-B10F0638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A53A3-AFA0-4D9D-BD39-2CEB7ED5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0C0DE6-6059-4AAE-B387-4B4E6530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38BF-E214-4D8D-95B1-178156B0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E0E2F-C4C2-4CCE-B111-BD0C7B28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BED32-9E5F-4953-851A-99DED5E7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94D3D-B4E7-4EFC-B7A7-B2819C81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F0D863-50BC-45A2-8339-26FD12B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B8BAE-299C-4471-812C-BD50B56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C5126F-F48A-4D13-985A-1F6164FE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0898E-07BB-441B-B74E-5D2CE1A3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C8E4A-E8FF-4FD2-95EE-75DEEBE4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86E12C-BAB9-4830-8206-EC7694EE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9C461-5F64-4127-A74F-5DE3E43B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4CBC-EA09-4C64-8D07-A13C1497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1B5B3B-15C3-4AA5-B1A0-29234CBF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650E9-D6BA-4AF7-8636-2B12A520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B974AD-E4D0-4232-8F20-40F789C1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ADFFF7-CA34-4AE4-921B-17416C5C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983CD9-DC70-4207-AB77-004AC891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8F6B1-EBEA-46C1-A58B-48F7616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513A66-A6AA-4AB1-AF16-F3311934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F7BFD3-E62E-40EA-85C1-949BE2E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5D1F26-F17A-4A1F-9617-BAB0F50C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A73716-B371-4518-8BCB-067C4216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881-7410-4E78-BE88-81FA972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F6DF7-EA0F-4206-B432-A0B6C33C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A8BFA-2FF0-423A-AA95-3A205228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E0878-5D70-40C7-B879-373BD7C5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803126-CD62-4749-AF08-99C0D8C0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6CB94-2B27-43CF-AFC4-A8530C5D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5B620-9482-4EF9-BCC6-FA4E6177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ABBE31-B7AC-499B-9953-C2D26025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EA271D-8224-4356-9609-F10D345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208D5-AEAB-4A8B-87EB-D4D0079C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017F2-2AE8-4286-9C7B-CC7DDAE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162F-C799-4769-B76B-51EA215F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042EC-288E-4604-9B04-734A491E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D6957-509C-4900-8B13-E1638EA0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77780-5F03-4581-97FD-215489F2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1B54-C8C3-4995-9E95-92450FD5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3A07-8714-4D5E-8AE9-50DCF22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BAD8D-FD39-4BB3-AE1E-91B3B4F5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730C-B6AB-4E86-8B61-D1504133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1D3-EDCD-4BC0-9A46-D81C4D9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E13E-9113-4D20-B476-8F36BD5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774A-398B-40BB-8AD6-D55B103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A57A-6FCC-4903-83F0-E4806A06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E2D0-C673-4F14-AA43-30F9D087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FF0BF-A4AB-4222-8796-3029FFA0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A4D9-E575-454E-9D9C-03FE9F7C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33689-1A66-41D5-B581-251700BC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51980-BEE5-4D24-A26E-5919F424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F1F3B-A1E4-4E20-9704-DB86C5EB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B478-FD63-473B-82FF-9ECCFC9B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9C1-632E-4141-8BA7-FA75F79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E72B-E074-4A89-926C-4445E205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06694-9E7C-48FC-BCE1-CA032044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C147-42C4-485E-8DEA-CD8EB684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1F1B6-E2CC-4526-8F1C-60CAC443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21AF8-5C93-4C41-B692-4753B675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3EC0-F32D-43C2-9FBD-ED08E43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799C9-312C-44DB-9585-AD099BFB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1117-12AB-47D2-A241-48E67A8D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D8C5-F2BD-40B2-9E6A-BC465DED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BE1F-F570-4AB2-B8E5-6185CECB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BBE-DB8C-4D36-B836-F2A5464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C7FA-B491-4144-B976-A2F9CC0A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16B24-E524-405B-9A83-1F766747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92B93-6B45-4487-AF8B-9083052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BDC6-BF94-4007-9819-7EA3AB2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EF611-3F26-41DD-B6A2-6D4A9BA3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45C26-81AD-4DF9-91B6-448F8A55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11A19-E50C-468D-859D-A2EF2F58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4D8F2-789C-4D5E-A0BD-FBA167C5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CE3E-6567-48F1-8D7B-2889A906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E328-9789-4648-BC08-3F2866D5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332-B0A8-49EE-AB41-390F2A5E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9ECF-17E2-45BE-8519-AA802C3B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4FCED-4872-40B7-A162-B17CEADB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CC19F-19EB-4349-98BD-C2541023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15AE2-9FEB-4AED-B077-558D43A6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EE2C-F916-43C8-B330-20518B87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DE885-7B4B-45B2-99B3-B441D97B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D60E9-DAD7-4F69-A88D-10B964AE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1489D-9D58-4BE4-B263-10545CD6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7D6CA-81E4-40BB-9166-272719A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92E86-F192-4F08-8D98-801FAA8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4F5-D332-4524-B15E-980ED4DF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9E721-D676-4DB4-B70D-14F2F71A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C2C6-FEA5-4795-BAC4-906414C5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3BB7C-1377-4486-92A6-F9F59264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D0E35-DF1C-463F-AF1F-BB3041BD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939DA-E9B6-45CF-87D2-96FD5A5A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26564-A829-4423-BF62-570DDF9A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6FC4-20B5-445E-BB4C-BC4E381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65973-11D8-4B52-A27C-B628F41B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D0AFE-0268-4F6F-B744-B9B4730A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1EF00-CEB3-4D35-BF93-AB67BD7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FD1-A1E5-4D80-8EC7-01A4BDA7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27E1-BE23-4483-BED2-73AE3C5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C5FDF-AFA1-4116-81CA-EF199E2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7598D-630F-418A-8B75-41D6AB73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1F2CB-CBE8-4F1F-9A0D-77624479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C42E5-07CE-492D-8F9C-C6606EF0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A5425-8DC7-4C62-AD14-B254D4BA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29E64-04D3-4506-9413-B2293C81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E9A3D-EA79-418E-BA9A-F60684CC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F9C75-8A3F-4D84-9538-DC458CE8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6E560-0301-46BF-AB33-D31E3FBE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89C-8D05-4354-8F47-5850841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A865-1BAD-4494-916F-41B3FABD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35C7D-DF9A-4B12-BED4-2A60B92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101D3-9067-4DBB-A74B-5D666D4B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5408C-104E-4EE3-AD70-0FBA6733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B5C2F-0174-49A3-9080-0B8F6D11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67774-A952-4EE7-82ED-93ED19F3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98F97-9402-4136-9547-BE6932C4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0D709-86E1-42CE-A14F-5257E2D8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3E4A6-A0D3-457B-904E-DB67ED1B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A5B98-D676-49ED-8E42-13A491B0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CAF4-E6E2-4176-92A9-88030A146C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7208-C1EF-45AE-B108-28A36C9A2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7B1-44E8-4B6D-839A-1351CE28BF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5E18-6783-4B2E-AECD-FD91C6960D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74AC-CA43-4521-AE6B-3673D49C7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9731-374C-480D-95C4-481609939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7280-4147-4ACB-BA44-F00FB5CC66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31F6-E208-4F41-9FC9-5ED54DE50A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9EE6-3B08-42E4-9B51-2EF671D10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F202-5B18-43BC-9EF1-24B37DD03F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711F-BF19-4C6A-A556-76B669698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D855-0D8B-4FCA-8D90-59FC0277E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835E-E18F-4DAD-9787-E200E7A1BA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1311-F993-45BC-A96B-4827CC21B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878F-D6D7-4ACD-ACE2-1E6E2BE74E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DB0C-3219-4B6E-B5EE-E18212F69A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5C7C-2169-419F-9F6E-AF8A615B1C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7F37-F5FC-4DCC-A0E4-18191DECEB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4D8B-E99C-4038-9BE8-7740C42439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12D2-F7AE-47E0-BBD1-030DC3B286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C639-141E-4009-AD54-CBD2933A40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7AC7-9C91-4A2C-B8AD-D2662E4166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0A6E-91D8-40A2-B806-86D6CAF33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76DE-9237-41F4-86EC-DD63E66C20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D889-5DD9-4986-A935-9B3583E3C0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20A7-A602-4235-93C1-99093B6D08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1D8-D4FC-40EE-AE99-6E16707CA6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B47B-5F4E-4067-9AC1-D87842D5D9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706D-E87C-46FB-8F42-657B32E2DC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C537-27D4-40F7-BFA7-D9D8C2E65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9FE3-11D4-447C-A245-DF59A4AAFF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2A81-9A84-4729-8B5E-58AB0C301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4237-B83F-4F6A-9977-9D89E85F0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BF92-0E77-4199-A85D-6792AFC59D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260C-88FA-475E-948B-2232F08EA9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E8CE-4C93-4940-AC72-957A5B640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4F91-A9BC-48A9-B087-208AA7619A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3E90-7806-4BF8-B81A-5B8C3DA2B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9B71-AD9C-4368-AF1B-1FAB88F8BC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FA30-EBD1-44CB-AD6C-0ADB9CD803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09920" y="3133800"/>
            <a:ext cx="41241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8520" y="907920"/>
            <a:ext cx="8886960" cy="5695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39640" y="1351080"/>
            <a:ext cx="1800360" cy="25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614680" y="1351080"/>
            <a:ext cx="2028600" cy="255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4680000" cy="649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572000" y="3430440"/>
            <a:ext cx="1871640" cy="255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647040" y="3430440"/>
            <a:ext cx="2028600" cy="255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500720" y="3780000"/>
            <a:ext cx="4679640" cy="6490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564000" y="5834160"/>
            <a:ext cx="2016000" cy="255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580000" y="5834160"/>
            <a:ext cx="2028960" cy="255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3492360" y="6175440"/>
            <a:ext cx="504036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147600" y="1047600"/>
            <a:ext cx="8848800" cy="547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303280" cy="255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395280" y="2266920"/>
            <a:ext cx="2303640" cy="255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395280" y="2598840"/>
            <a:ext cx="6697800" cy="255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41440" y="5291280"/>
            <a:ext cx="2303280" cy="255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468360" y="5641920"/>
            <a:ext cx="2303280" cy="2556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468360" y="5973840"/>
            <a:ext cx="6697440" cy="255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8335800" y="35733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9"/>
          <a:stretch/>
        </p:blipFill>
        <p:spPr>
          <a:xfrm>
            <a:off x="8388360" y="39337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0"/>
          <a:stretch/>
        </p:blipFill>
        <p:spPr>
          <a:xfrm>
            <a:off x="8317080" y="4292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1"/>
          <a:stretch/>
        </p:blipFill>
        <p:spPr>
          <a:xfrm>
            <a:off x="8440560" y="471492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2"/>
          <a:stretch/>
        </p:blipFill>
        <p:spPr>
          <a:xfrm>
            <a:off x="8388360" y="5084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3"/>
          <a:stretch/>
        </p:blipFill>
        <p:spPr>
          <a:xfrm>
            <a:off x="8431200" y="5445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4"/>
          <a:stretch/>
        </p:blipFill>
        <p:spPr>
          <a:xfrm>
            <a:off x="8388360" y="58053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5"/>
          <a:stretch/>
        </p:blipFill>
        <p:spPr>
          <a:xfrm>
            <a:off x="8388360" y="617544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0:1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